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9A2-7D62-4C92-9556-1D24E411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188-9765-476C-BB0F-F16276CB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F23-6D49-4087-A29C-554EF624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69F-AC48-4900-A06F-079FDFD6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B64-EFDB-431C-A1F5-5968A3CF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B67-CE03-478C-82FF-AA1B4F15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C57-5765-4C2A-818E-D4CF30A7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C59-FEDA-4DCB-B0D6-6DF58DCD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FA8-8AB1-4311-86B0-AF21CFB2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9D0-5093-4E09-B193-6E0725A6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B84-2236-4FFF-BD72-73FF2C4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C15-50DD-4CC6-9772-BFE0C89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6DC2-3A0A-4C68-B72A-D7F07D42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0"/>
            <a:ext cx="86104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ter 2, Section 2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book Page 5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Arial"/>
              </a:rPr>
              <a:t>Pouring cold milk into hot chocolate is an example of ____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2. Opening the bathroom door after a hot shower is an example of ___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3. Feeling the warmth of the sun on your face is an example of ___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4. A hot pencil touching a cold desk is an example of 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5. Cold air is ____________ dense than hot 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6. Wind blows from areas of _________ pressure to areas of low pres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4:31:37Z</dcterms:created>
  <dc:creator>balber</dc:creator>
  <dc:description/>
  <dc:language>en-US</dc:language>
  <cp:lastModifiedBy>balber</cp:lastModifiedBy>
  <dcterms:modified xsi:type="dcterms:W3CDTF">2008-12-17T14:32:20Z</dcterms:modified>
  <cp:revision>1</cp:revision>
  <dc:subject/>
  <dc:title>Slide 1</dc:title>
</cp:coreProperties>
</file>